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C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L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Skyscr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a natural resour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225360" y="594360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" fill="hold"/>
                                        <p:tgtEl>
                                          <p:spTgt spid="6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6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6668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Map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952880" y="5029200"/>
            <a:ext cx="35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Latitude/Long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Compass R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rt of a map that shows dir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/>
          <p:nvPr/>
        </p:nvSpPr>
        <p:spPr>
          <a:xfrm>
            <a:off x="4629240" y="59436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1" fill="hold"/>
                                        <p:tgtEl>
                                          <p:spTgt spid="7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" fill="hold"/>
                                        <p:tgtEl>
                                          <p:spTgt spid="7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7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75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200"/>
                            </p:stCondLst>
                            <p:childTnLst>
                              <p:par>
                                <p:cTn id="28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700"/>
                            </p:stCondLst>
                            <p:childTnLst>
                              <p:par>
                                <p:cTn id="2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200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1" fill="hold"/>
                                        <p:tgtEl>
                                          <p:spTgt spid="8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Water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G.P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7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tant movement of the water on the Ear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5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4654440" y="477216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" fill="hold"/>
                                        <p:tgtEl>
                                          <p:spTgt spid="9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1" fill="hold"/>
                                        <p:tgtEl>
                                          <p:spTgt spid="9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7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4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1" fill="hold"/>
                                        <p:tgtEl>
                                          <p:spTgt spid="9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Aqui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Equ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Prime Merid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Conden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1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42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ing place for latitu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9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0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51" name=""/>
          <p:cNvSpPr/>
          <p:nvPr/>
        </p:nvSpPr>
        <p:spPr>
          <a:xfrm>
            <a:off x="233280" y="577368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6" dur="1" fill="hold"/>
                                        <p:tgtEl>
                                          <p:spTgt spid="10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1" fill="hold"/>
                                        <p:tgtEl>
                                          <p:spTgt spid="10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3" dur="1" fill="hold"/>
                                        <p:tgtEl>
                                          <p:spTgt spid="10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102" name="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94400" y="6461280"/>
              <a:ext cx="35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kedamon@hotmail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Toro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Queb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Mont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Otta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67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pital of Cana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5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76" name=""/>
          <p:cNvSpPr/>
          <p:nvPr/>
        </p:nvSpPr>
        <p:spPr>
          <a:xfrm>
            <a:off x="4692600" y="59436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1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" fill="hold"/>
                                        <p:tgtEl>
                                          <p:spTgt spid="1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5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4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9" dur="1" fill="hold"/>
                                        <p:tgtEl>
                                          <p:spTgt spid="1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La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Spa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Fre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1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92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85800" y="76500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st people in Latin America speak this langu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9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0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01" name=""/>
          <p:cNvSpPr/>
          <p:nvPr/>
        </p:nvSpPr>
        <p:spPr>
          <a:xfrm>
            <a:off x="219240" y="59436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1" fill="hold"/>
                                        <p:tgtEl>
                                          <p:spTgt spid="1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1" fill="hold"/>
                                        <p:tgtEl>
                                          <p:spTgt spid="1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1" fill="hold"/>
                                        <p:tgtEl>
                                          <p:spTgt spid="1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Continents to 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33520" y="6095880"/>
            <a:ext cx="34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Volcanoes to eru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952880" y="5029200"/>
            <a:ext cx="35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Mountains to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All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6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17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vement of the Earth’s plates cau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5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26" name=""/>
          <p:cNvSpPr/>
          <p:nvPr/>
        </p:nvSpPr>
        <p:spPr>
          <a:xfrm>
            <a:off x="4667400" y="59436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1" fill="hold"/>
                                        <p:tgtEl>
                                          <p:spTgt spid="1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1" fill="hold"/>
                                        <p:tgtEl>
                                          <p:spTgt spid="1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7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9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0" name="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1" fill="hold"/>
                                        <p:tgtEl>
                                          <p:spTgt spid="1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75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200"/>
                            </p:stCondLst>
                            <p:childTnLst>
                              <p:par>
                                <p:cTn id="49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8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700"/>
                            </p:stCondLst>
                            <p:childTnLst>
                              <p:par>
                                <p:cTn id="5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2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7200"/>
                            </p:stCondLst>
                            <p:childTnLst>
                              <p:par>
                                <p:cTn id="5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1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2" dur="1" fill="hold"/>
                                        <p:tgtEl>
                                          <p:spTgt spid="1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533520" y="6095880"/>
            <a:ext cx="31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Prime Min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King/Qu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Dict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8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49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eader of Cana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7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58" name=""/>
          <p:cNvSpPr/>
          <p:nvPr/>
        </p:nvSpPr>
        <p:spPr>
          <a:xfrm>
            <a:off x="206280" y="594360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1" dur="1" fill="hold"/>
                                        <p:tgtEl>
                                          <p:spTgt spid="1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500"/>
                            </p:stCondLst>
                            <p:childTnLst>
                              <p:par>
                                <p:cTn id="52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7" dur="1" fill="hold"/>
                                        <p:tgtEl>
                                          <p:spTgt spid="1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75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6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1" fill="hold"/>
                                        <p:tgtEl>
                                          <p:spTgt spid="16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An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Rock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Sierra Mad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Rain Fo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3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74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untain range in South Ame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1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2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83" name=""/>
          <p:cNvSpPr/>
          <p:nvPr/>
        </p:nvSpPr>
        <p:spPr>
          <a:xfrm>
            <a:off x="258840" y="4809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1" fill="hold"/>
                                        <p:tgtEl>
                                          <p:spTgt spid="16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500"/>
                            </p:stCondLst>
                            <p:childTnLst>
                              <p:par>
                                <p:cTn id="56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3" dur="1" fill="hold"/>
                                        <p:tgtEl>
                                          <p:spTgt spid="1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75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5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3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1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0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8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7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5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3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1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4" dur="1" fill="hold"/>
                                        <p:tgtEl>
                                          <p:spTgt spid="1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Or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920880" y="6035760"/>
            <a:ext cx="26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Sugar C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Coff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Cacao B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8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799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#1 export of Latin Ame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07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08" name=""/>
          <p:cNvSpPr/>
          <p:nvPr/>
        </p:nvSpPr>
        <p:spPr>
          <a:xfrm>
            <a:off x="4667400" y="47703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" fill="hold"/>
                                        <p:tgtEl>
                                          <p:spTgt spid="18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" fill="hold"/>
                                        <p:tgtEl>
                                          <p:spTgt spid="18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75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6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0" dur="1" fill="hold"/>
                                        <p:tgtEl>
                                          <p:spTgt spid="18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Ma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Azte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In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Mestiz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3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24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dian Tribe of Central Mex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1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2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33" name=""/>
          <p:cNvSpPr/>
          <p:nvPr/>
        </p:nvSpPr>
        <p:spPr>
          <a:xfrm>
            <a:off x="220680" y="59436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1" fill="hold"/>
                                        <p:tgtEl>
                                          <p:spTgt spid="19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5" dur="1" fill="hold"/>
                                        <p:tgtEl>
                                          <p:spTgt spid="19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75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1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6" dur="1" fill="hold"/>
                                        <p:tgtEl>
                                          <p:spTgt spid="19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Humid Contin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Trop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4952880" y="5029200"/>
            <a:ext cx="34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Humid Subtrop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4952880" y="6095880"/>
            <a:ext cx="34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Marine West Co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8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49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climate zone we live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7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58" name=""/>
          <p:cNvSpPr/>
          <p:nvPr/>
        </p:nvSpPr>
        <p:spPr>
          <a:xfrm>
            <a:off x="307800" y="478476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5" dur="1" fill="hold"/>
                                        <p:tgtEl>
                                          <p:spTgt spid="20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1" dur="1" fill="hold"/>
                                        <p:tgtEl>
                                          <p:spTgt spid="20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75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9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60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61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8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69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6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77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5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86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3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94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2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103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0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111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8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19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127" name="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2" dur="1" fill="hold"/>
                                        <p:tgtEl>
                                          <p:spTgt spid="20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000"/>
                            </p:stCondLst>
                            <p:childTnLst>
                              <p:par>
                                <p:cTn id="7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500"/>
                            </p:stCondLst>
                            <p:childTnLst>
                              <p:par>
                                <p:cTn id="7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4000"/>
                            </p:stCondLst>
                            <p:childTnLst>
                              <p:par>
                                <p:cTn id="7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4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0"/>
                            </p:stCondLst>
                            <p:childTnLst>
                              <p:par>
                                <p:cTn id="7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500"/>
                            </p:stCondLst>
                            <p:childTnLst>
                              <p:par>
                                <p:cTn id="74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Penins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L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Is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ody of water with land on 4 s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225360" y="594360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Str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3520" y="6095880"/>
            <a:ext cx="26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Archipel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Isth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8398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rrow strip of land connecting 2 larger pieces of l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4597560" y="59436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4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Ele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3520" y="6095880"/>
            <a:ext cx="25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Map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eight above sea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258840" y="47703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" fill="hold"/>
                                        <p:tgtEl>
                                          <p:spTgt spid="5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dansnyder</cp:lastModifiedBy>
  <dcterms:modified xsi:type="dcterms:W3CDTF">2009-05-29T02:25:42Z</dcterms:modified>
  <cp:revision>20</cp:revision>
  <dc:subject/>
  <dc:title>No Slide Title</dc:title>
</cp:coreProperties>
</file>